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FDCC-5122-4DBE-BFEE-69AF49217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CB80-2412-4219-8CDD-9E77E176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3AB8-E0BF-48B0-A94A-8B7A1C61B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B282-46B4-4357-98E9-5081019D7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81E7-DEC1-4470-AD41-C568D892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05EE-EB56-4449-B166-64CF99CF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3B26-6F5D-4F6B-9384-D0B4AC38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CAC3-17BE-4AD1-8D36-1FA498B5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61F4-0011-44ED-A098-A777C53B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1F8C-022F-4326-8848-1D69A87F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6721-E091-4272-88AB-927950B7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8669-E9BF-44D7-84EC-190F1B15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BB1F-FF5F-408A-AF60-2BEC11A49D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hyperlink" Target="http://www.shkola-abv.ru/" TargetMode="External"/><Relationship Id="rId4" Type="http://schemas.openxmlformats.org/officeDocument/2006/relationships/hyperlink" Target="http://www.shkola-abv.ru/" TargetMode="External"/><Relationship Id="rId5" Type="http://schemas.openxmlformats.org/officeDocument/2006/relationships/hyperlink" Target="http://www.shkola-abv.ru/" TargetMode="External"/><Relationship Id="rId6" Type="http://schemas.openxmlformats.org/officeDocument/2006/relationships/hyperlink" Target="http://www.shkola-abv.ru/" TargetMode="External"/><Relationship Id="rId7" Type="http://schemas.openxmlformats.org/officeDocument/2006/relationships/hyperlink" Target="http://www.shkola-abv.ru/" TargetMode="External"/><Relationship Id="rId8" Type="http://schemas.openxmlformats.org/officeDocument/2006/relationships/hyperlink" Target="http://www.shkola-abv.ru/" TargetMode="External"/><Relationship Id="rId9" Type="http://schemas.openxmlformats.org/officeDocument/2006/relationships/hyperlink" Target="http://www.shkola-abv.ru/" TargetMode="External"/><Relationship Id="rId10" Type="http://schemas.openxmlformats.org/officeDocument/2006/relationships/hyperlink" Target="https://vk.com/shkola_abv" TargetMode="External"/><Relationship Id="rId11" Type="http://schemas.openxmlformats.org/officeDocument/2006/relationships/hyperlink" Target="https://vk.com/shkola_abv" TargetMode="External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Helen\Desktop\белая берёза\сах Кто живёт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0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split dir="in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split dir="in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split dir="in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split dir="in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94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Эмблема круг"/>
          <p:cNvPicPr/>
          <p:nvPr/>
        </p:nvPicPr>
        <p:blipFill>
          <a:blip r:embed="rId2"/>
          <a:stretch/>
        </p:blipFill>
        <p:spPr>
          <a:xfrm>
            <a:off x="2627280" y="2852640"/>
            <a:ext cx="770040" cy="755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782520" y="2707560"/>
            <a:ext cx="2808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  <a:ea typeface="Times New Roman"/>
              </a:rPr>
              <a:t>сайт «Школа АБ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3"/>
              </a:rPr>
              <a:t>www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shkola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6"/>
              </a:rPr>
              <a:t>-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7"/>
              </a:rPr>
              <a:t>abv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8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9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0"/>
              </a:rPr>
              <a:t>https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1"/>
              </a:rPr>
              <a:t>vk.com/shkola_ab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12:52:52Z</dcterms:created>
  <dc:creator>Helen</dc:creator>
  <dc:description/>
  <dc:language>en-US</dc:language>
  <cp:lastModifiedBy>Берюхов</cp:lastModifiedBy>
  <dcterms:modified xsi:type="dcterms:W3CDTF">2025-04-30T07:20:23Z</dcterms:modified>
  <cp:revision>7</cp:revision>
  <dc:subject/>
  <dc:title>Слайд 1</dc:title>
</cp:coreProperties>
</file>